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2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2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4"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A2CA-E093-437C-A091-D78F067DB53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52560" y="685800"/>
            <a:ext cx="495288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ermination of the settlement prioritiz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ermination of the settlement prioritization means finding it from the number of  different settlements using the important parameters and criteria. In order to that from all of the possible parameters there should be chosen the ones that can be used in the most effective and adequate way as the prioritization criteria.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remember  that the significance of the criteria can differ depending on the goals and stage of prioritiz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52560" y="685800"/>
            <a:ext cx="495288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CRITERIA HAVE TO INCLUDE THE FOLLOWING PRINC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real necessity in the water supply improv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ded investments should have the most social-economical benef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sustainability of the sett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into account the technical feasibility and the economy of the suggested investments and exploitation expense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52560" y="685800"/>
            <a:ext cx="495288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d on said above it is recommended to use the next 4 main crite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lth of population and risk fac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and economical prof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tainability of the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possibili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selection of settlements is recommended to do by ph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52560" y="685800"/>
            <a:ext cx="495288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ing of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main criteria and subcriteria on different stages have different values to the prioritization goals, it is recommended to use the specific “ Weighting” of each criteria on each stage of priorit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52560" y="685800"/>
            <a:ext cx="495288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ed method for the determination of the settlement prioritization directed to the improvement of water supply system  helped to choose 155 of the most problematic settlements from more than 1600 ones and then to determine 50 of the most prioritized settl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50 of the most prioritized settlements there were chosen 6 projects. For each one there were done technical and economical and financial and sociological resear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results of this feasibility study The Kuwait Fund For Arab Economic Development loan was given to the development of all 6 settlements. It is implemented successful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3EA98-1926-4467-86ED-B640958A0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95000" y="160020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61287-0CD6-430C-A564-3A872945E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7E4AA-9B3B-4B50-AC77-C8D46EB7E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9500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50964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52428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9500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50964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52428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876D5-3895-49B0-B95C-EF23DDC33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124C34-BC84-4686-B689-34B8EC9651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95000" y="1600200"/>
            <a:ext cx="8915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D38D5-6B31-4BBF-AD82-E45915F41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F1DEC-E7C7-44DF-B994-CA548629D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36715-5B35-4D96-A526-B0E12882C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7757F-672D-48E1-B1DE-A38DE39AD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79160" y="102960"/>
            <a:ext cx="893124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75699-F36C-4668-B4A9-FC98B312C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858D4-8E12-44E9-94D2-A9F92A149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95000" y="1600200"/>
            <a:ext cx="8915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78BCC-9CF5-4DFD-A651-C0A6162DF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674E3-69EC-4F31-B4CF-BD683151C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C8750-A2A7-4788-8B04-8C2EEB7B7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95000" y="160020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32D61-F952-44AE-932C-D95E92EBD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48BA35-99CB-4AA8-BBBA-4D1211ECC6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9500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50964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52428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9500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50964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52428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D976EF-33F1-4CD7-BC89-51D1C61B2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B1368C-AFB6-45B7-8F13-FC43EF5582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2" name="PlaceHolder 2"/>
          <p:cNvSpPr>
            <a:spLocks noGrp="1"/>
          </p:cNvSpPr>
          <p:nvPr>
            <p:ph type="subTitle"/>
          </p:nvPr>
        </p:nvSpPr>
        <p:spPr>
          <a:xfrm>
            <a:off x="495000" y="1600200"/>
            <a:ext cx="8915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C0D925-61E1-423F-AA66-6D7C67F2F4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4"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5C0A72-5757-4D12-AC13-9BB6A88972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6"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77"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39FACB-8563-4561-BFB2-6860855784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E6EADA-6DAE-4B03-95BD-027CA1A8D8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6CEAE-6091-4170-A93B-8B746AE41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79160" y="102960"/>
            <a:ext cx="893124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61E329-9F36-46B3-9E58-442CF02B57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1"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2"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3"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3629C2-3795-4C02-A81F-AE3CA824C7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5"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6"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7" name="PlaceHolder 4"/>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8427EA-524B-43D6-BFB4-F9EF2F0A1A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9"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0"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1" name="PlaceHolder 4"/>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772BA6-4658-4269-AD24-930658CB81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3" name="PlaceHolder 2"/>
          <p:cNvSpPr>
            <a:spLocks noGrp="1"/>
          </p:cNvSpPr>
          <p:nvPr>
            <p:ph/>
          </p:nvPr>
        </p:nvSpPr>
        <p:spPr>
          <a:xfrm>
            <a:off x="495000" y="160020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4" name="PlaceHolder 3"/>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DE73C5-8755-4B78-8D0A-09791E976A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6"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7"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8"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9" name="PlaceHolder 5"/>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EE0C55-CC61-4D04-B274-78E88096C2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1" name="PlaceHolder 2"/>
          <p:cNvSpPr>
            <a:spLocks noGrp="1"/>
          </p:cNvSpPr>
          <p:nvPr>
            <p:ph/>
          </p:nvPr>
        </p:nvSpPr>
        <p:spPr>
          <a:xfrm>
            <a:off x="49500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2" name="PlaceHolder 3"/>
          <p:cNvSpPr>
            <a:spLocks noGrp="1"/>
          </p:cNvSpPr>
          <p:nvPr>
            <p:ph/>
          </p:nvPr>
        </p:nvSpPr>
        <p:spPr>
          <a:xfrm>
            <a:off x="350964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3" name="PlaceHolder 4"/>
          <p:cNvSpPr>
            <a:spLocks noGrp="1"/>
          </p:cNvSpPr>
          <p:nvPr>
            <p:ph/>
          </p:nvPr>
        </p:nvSpPr>
        <p:spPr>
          <a:xfrm>
            <a:off x="652428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4" name="PlaceHolder 5"/>
          <p:cNvSpPr>
            <a:spLocks noGrp="1"/>
          </p:cNvSpPr>
          <p:nvPr>
            <p:ph/>
          </p:nvPr>
        </p:nvSpPr>
        <p:spPr>
          <a:xfrm>
            <a:off x="49500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5" name="PlaceHolder 6"/>
          <p:cNvSpPr>
            <a:spLocks noGrp="1"/>
          </p:cNvSpPr>
          <p:nvPr>
            <p:ph/>
          </p:nvPr>
        </p:nvSpPr>
        <p:spPr>
          <a:xfrm>
            <a:off x="350964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6" name="PlaceHolder 7"/>
          <p:cNvSpPr>
            <a:spLocks noGrp="1"/>
          </p:cNvSpPr>
          <p:nvPr>
            <p:ph/>
          </p:nvPr>
        </p:nvSpPr>
        <p:spPr>
          <a:xfrm>
            <a:off x="652428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BC9E7F-E077-4190-A4D5-BAC45CAC78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E3F3B94-1EE2-451B-B6E8-D0E408218B0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4" name="PlaceHolder 2"/>
          <p:cNvSpPr>
            <a:spLocks noGrp="1"/>
          </p:cNvSpPr>
          <p:nvPr>
            <p:ph type="subTitle"/>
          </p:nvPr>
        </p:nvSpPr>
        <p:spPr>
          <a:xfrm>
            <a:off x="495000" y="1600200"/>
            <a:ext cx="8915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310AC33-A9E0-412C-AD93-121EACFADBE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6"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699A7BF-8F2F-4DF7-94E0-210CA34211C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CBA09-4DD7-4A63-81D8-7955B6E5A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8"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19"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DF97AE6-8C68-4F56-8BD6-7C519ADB6C8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6B4B135-E8B1-4E38-B9B4-405D9C9EE25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79160" y="102960"/>
            <a:ext cx="893124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4B53D17-2AEF-4AF4-A921-67B958884F0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3"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4"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5"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A3367F-9AB6-4437-866D-F4643C62141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7"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8"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9" name="PlaceHolder 4"/>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2E44597-F53E-4633-8357-8E1CF6A45BA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1"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2"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3" name="PlaceHolder 4"/>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86A9E4-F97B-4021-881D-26F99F2DDB1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5" name="PlaceHolder 2"/>
          <p:cNvSpPr>
            <a:spLocks noGrp="1"/>
          </p:cNvSpPr>
          <p:nvPr>
            <p:ph/>
          </p:nvPr>
        </p:nvSpPr>
        <p:spPr>
          <a:xfrm>
            <a:off x="495000" y="160020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6" name="PlaceHolder 3"/>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8A725F6-AF34-4C1D-8690-4665260AF64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8"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9"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0"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1" name="PlaceHolder 5"/>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5DEA72A-54CA-44E0-AE5E-C54CAC82693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3" name="PlaceHolder 2"/>
          <p:cNvSpPr>
            <a:spLocks noGrp="1"/>
          </p:cNvSpPr>
          <p:nvPr>
            <p:ph/>
          </p:nvPr>
        </p:nvSpPr>
        <p:spPr>
          <a:xfrm>
            <a:off x="49500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4" name="PlaceHolder 3"/>
          <p:cNvSpPr>
            <a:spLocks noGrp="1"/>
          </p:cNvSpPr>
          <p:nvPr>
            <p:ph/>
          </p:nvPr>
        </p:nvSpPr>
        <p:spPr>
          <a:xfrm>
            <a:off x="350964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5" name="PlaceHolder 4"/>
          <p:cNvSpPr>
            <a:spLocks noGrp="1"/>
          </p:cNvSpPr>
          <p:nvPr>
            <p:ph/>
          </p:nvPr>
        </p:nvSpPr>
        <p:spPr>
          <a:xfrm>
            <a:off x="652428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6" name="PlaceHolder 5"/>
          <p:cNvSpPr>
            <a:spLocks noGrp="1"/>
          </p:cNvSpPr>
          <p:nvPr>
            <p:ph/>
          </p:nvPr>
        </p:nvSpPr>
        <p:spPr>
          <a:xfrm>
            <a:off x="49500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7" name="PlaceHolder 6"/>
          <p:cNvSpPr>
            <a:spLocks noGrp="1"/>
          </p:cNvSpPr>
          <p:nvPr>
            <p:ph/>
          </p:nvPr>
        </p:nvSpPr>
        <p:spPr>
          <a:xfrm>
            <a:off x="350964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8" name="PlaceHolder 7"/>
          <p:cNvSpPr>
            <a:spLocks noGrp="1"/>
          </p:cNvSpPr>
          <p:nvPr>
            <p:ph/>
          </p:nvPr>
        </p:nvSpPr>
        <p:spPr>
          <a:xfrm>
            <a:off x="652428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78BFB0C-A52E-414C-AEDE-4D9D0A2CA36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41415-ABFA-4C9D-ABB1-F88636821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79160" y="102960"/>
            <a:ext cx="893124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E6BB9-6283-4279-8163-E108A7487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4C837-9A93-495A-8748-0A34AAE2A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D8EFA-4485-41AF-A43E-E479D5316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9E0AB-0FD4-4596-B333-E57DBA51C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3440" y="-117360"/>
            <a:ext cx="2991960" cy="6973920"/>
            <a:chOff x="-73440" y="-117360"/>
            <a:chExt cx="2991960" cy="6973920"/>
          </a:xfrm>
        </p:grpSpPr>
        <p:sp>
          <p:nvSpPr>
            <p:cNvPr id="1" name=""/>
            <p:cNvSpPr/>
            <p:nvPr/>
          </p:nvSpPr>
          <p:spPr>
            <a:xfrm>
              <a:off x="-7920" y="5178600"/>
              <a:ext cx="81108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84240" y="3925080"/>
              <a:ext cx="943920" cy="723600"/>
              <a:chOff x="84240" y="3925080"/>
              <a:chExt cx="943920" cy="723600"/>
            </a:xfrm>
          </p:grpSpPr>
          <p:sp>
            <p:nvSpPr>
              <p:cNvPr id="3" name=""/>
              <p:cNvSpPr/>
              <p:nvPr/>
            </p:nvSpPr>
            <p:spPr>
              <a:xfrm flipH="1" rot="14965200">
                <a:off x="144360" y="3938400"/>
                <a:ext cx="227160" cy="2862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311400" y="4305960"/>
                <a:ext cx="388440" cy="2379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96600" y="4142520"/>
                <a:ext cx="406080" cy="120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5160" y="2755800"/>
              <a:ext cx="122040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800" y="2585160"/>
              <a:ext cx="2916720" cy="3150720"/>
              <a:chOff x="1800" y="2585160"/>
              <a:chExt cx="2916720" cy="3150720"/>
            </a:xfrm>
          </p:grpSpPr>
          <p:sp>
            <p:nvSpPr>
              <p:cNvPr id="8" name=""/>
              <p:cNvSpPr/>
              <p:nvPr/>
            </p:nvSpPr>
            <p:spPr>
              <a:xfrm flipH="1" rot="789600">
                <a:off x="409680" y="2692080"/>
                <a:ext cx="1055880" cy="100476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5840" y="2832120"/>
                <a:ext cx="88380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81600" y="3041640"/>
                <a:ext cx="313560" cy="51732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955080" y="3788640"/>
                <a:ext cx="286920" cy="30780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73000" y="3848040"/>
                <a:ext cx="709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936360" y="4032000"/>
                <a:ext cx="1982160" cy="1703880"/>
                <a:chOff x="936360" y="4032000"/>
                <a:chExt cx="1982160" cy="1703880"/>
              </a:xfrm>
            </p:grpSpPr>
            <p:sp>
              <p:nvSpPr>
                <p:cNvPr id="14" name=""/>
                <p:cNvSpPr/>
                <p:nvPr/>
              </p:nvSpPr>
              <p:spPr>
                <a:xfrm flipH="1" rot="7102800">
                  <a:off x="1390320" y="3895200"/>
                  <a:ext cx="473760" cy="13158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536560" y="4963680"/>
                  <a:ext cx="109800" cy="5403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731680" y="5581440"/>
                  <a:ext cx="199080" cy="9036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43560" bIns="43560" anchor="t">
                  <a:noAutofit/>
                </a:bodyPr>
                <a:p>
                  <a:endParaRPr b="0" lang="en-US" sz="1800" spc="-1" strike="noStrike">
                    <a:solidFill>
                      <a:srgbClr val="006699"/>
                    </a:solidFill>
                    <a:latin typeface="Arial"/>
                  </a:endParaRPr>
                </a:p>
              </p:txBody>
            </p:sp>
          </p:grpSp>
        </p:grpSp>
        <p:grpSp>
          <p:nvGrpSpPr>
            <p:cNvPr id="17" name=""/>
            <p:cNvGrpSpPr/>
            <p:nvPr/>
          </p:nvGrpSpPr>
          <p:grpSpPr>
            <a:xfrm>
              <a:off x="511560" y="6175080"/>
              <a:ext cx="844560" cy="637920"/>
              <a:chOff x="511560" y="6175080"/>
              <a:chExt cx="844560" cy="637920"/>
            </a:xfrm>
          </p:grpSpPr>
          <p:sp>
            <p:nvSpPr>
              <p:cNvPr id="18" name=""/>
              <p:cNvSpPr/>
              <p:nvPr/>
            </p:nvSpPr>
            <p:spPr>
              <a:xfrm rot="6248400">
                <a:off x="1100880" y="6166800"/>
                <a:ext cx="196560" cy="2736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841680" y="6508080"/>
                <a:ext cx="336600" cy="2271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434160" y="6401160"/>
                <a:ext cx="352080" cy="115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45240" y="1772280"/>
              <a:ext cx="849600" cy="696600"/>
              <a:chOff x="345240" y="1772280"/>
              <a:chExt cx="849600" cy="696600"/>
            </a:xfrm>
          </p:grpSpPr>
          <p:sp>
            <p:nvSpPr>
              <p:cNvPr id="22" name=""/>
              <p:cNvSpPr/>
              <p:nvPr/>
            </p:nvSpPr>
            <p:spPr>
              <a:xfrm rot="5002800">
                <a:off x="919440" y="1732320"/>
                <a:ext cx="206640" cy="3222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64640" y="2143800"/>
                <a:ext cx="353880" cy="2678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49120" y="2204280"/>
                <a:ext cx="370080" cy="1364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401480" y="0"/>
              <a:ext cx="592200" cy="581400"/>
              <a:chOff x="1401480" y="0"/>
              <a:chExt cx="592200" cy="581400"/>
            </a:xfrm>
          </p:grpSpPr>
          <p:sp>
            <p:nvSpPr>
              <p:cNvPr id="26" name=""/>
              <p:cNvSpPr/>
              <p:nvPr/>
            </p:nvSpPr>
            <p:spPr>
              <a:xfrm>
                <a:off x="1401480" y="0"/>
                <a:ext cx="1875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672560" y="103320"/>
                <a:ext cx="32112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607760" y="489240"/>
                <a:ext cx="33552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50120" y="149400"/>
              <a:ext cx="12013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416520" y="5403600"/>
              <a:ext cx="22680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57560" y="5702040"/>
              <a:ext cx="11340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9440" y="6524640"/>
              <a:ext cx="20268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360" y="6299280"/>
              <a:ext cx="22320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360" y="6269040"/>
              <a:ext cx="8064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360" y="5141880"/>
              <a:ext cx="85428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4920" y="650520"/>
              <a:ext cx="591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416160" y="1199880"/>
              <a:ext cx="28728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86760" y="453960"/>
              <a:ext cx="25236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406080" y="1144440"/>
              <a:ext cx="10620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1005840" y="739440"/>
              <a:ext cx="12348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360" y="1406520"/>
              <a:ext cx="61884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2840"/>
              <a:ext cx="138204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95000" y="1600200"/>
            <a:ext cx="89154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95360" y="6243480"/>
            <a:ext cx="2311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7098840" y="6243480"/>
            <a:ext cx="23115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D98B-2564-4598-8904-F66BAC5D857D}" type="slidenum">
              <a:rPr b="0" lang="ru-RU"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16920" y="0"/>
            <a:ext cx="9776160" cy="6858000"/>
            <a:chOff x="-16920" y="0"/>
            <a:chExt cx="9776160" cy="6858000"/>
          </a:xfrm>
        </p:grpSpPr>
        <p:grpSp>
          <p:nvGrpSpPr>
            <p:cNvPr id="85" name=""/>
            <p:cNvGrpSpPr/>
            <p:nvPr/>
          </p:nvGrpSpPr>
          <p:grpSpPr>
            <a:xfrm>
              <a:off x="5896080" y="31680"/>
              <a:ext cx="3863160" cy="6174720"/>
              <a:chOff x="5896080" y="31680"/>
              <a:chExt cx="3863160" cy="6174720"/>
            </a:xfrm>
          </p:grpSpPr>
          <p:sp>
            <p:nvSpPr>
              <p:cNvPr id="86" name=""/>
              <p:cNvSpPr/>
              <p:nvPr/>
            </p:nvSpPr>
            <p:spPr>
              <a:xfrm flipV="1" rot="11970000">
                <a:off x="7139520" y="346320"/>
                <a:ext cx="2291760" cy="235764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8044200" y="1957680"/>
                <a:ext cx="981720" cy="84276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397640" y="2594880"/>
                <a:ext cx="47592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868160" y="673920"/>
                <a:ext cx="421200" cy="551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753680" y="2644560"/>
                <a:ext cx="17712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746120" y="1240560"/>
                <a:ext cx="20592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6425280" y="2936160"/>
                <a:ext cx="5670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6720" y="3106800"/>
              <a:ext cx="555120" cy="103032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88720" y="2000160"/>
              <a:ext cx="216504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37736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543680" y="4532400"/>
              <a:ext cx="60840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373760" y="4728960"/>
              <a:ext cx="14940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2046600" y="5195880"/>
              <a:ext cx="190512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492080" y="1014480"/>
              <a:ext cx="1072440" cy="1312920"/>
              <a:chOff x="4492080" y="1014480"/>
              <a:chExt cx="1072440" cy="1312920"/>
            </a:xfrm>
          </p:grpSpPr>
          <p:sp>
            <p:nvSpPr>
              <p:cNvPr id="100" name=""/>
              <p:cNvSpPr/>
              <p:nvPr/>
            </p:nvSpPr>
            <p:spPr>
              <a:xfrm rot="3220200">
                <a:off x="4962960" y="1045800"/>
                <a:ext cx="285840" cy="4107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5037480" y="1589040"/>
                <a:ext cx="488880" cy="3412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457880" y="1982880"/>
                <a:ext cx="511200" cy="17388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6112440" y="283680"/>
              <a:ext cx="962640" cy="862920"/>
              <a:chOff x="6112440" y="283680"/>
              <a:chExt cx="962640" cy="862920"/>
            </a:xfrm>
          </p:grpSpPr>
          <p:sp>
            <p:nvSpPr>
              <p:cNvPr id="104" name=""/>
              <p:cNvSpPr/>
              <p:nvPr/>
            </p:nvSpPr>
            <p:spPr>
              <a:xfrm rot="14908200">
                <a:off x="6237720" y="795960"/>
                <a:ext cx="178560" cy="3913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6197400" y="473760"/>
                <a:ext cx="306000" cy="3250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779160" y="380160"/>
                <a:ext cx="320040" cy="165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1053720" y="5276160"/>
              <a:ext cx="1109880" cy="860760"/>
              <a:chOff x="1053720" y="5276160"/>
              <a:chExt cx="1109880" cy="860760"/>
            </a:xfrm>
          </p:grpSpPr>
          <p:sp>
            <p:nvSpPr>
              <p:cNvPr id="108" name=""/>
              <p:cNvSpPr/>
              <p:nvPr/>
            </p:nvSpPr>
            <p:spPr>
              <a:xfrm rot="8524800">
                <a:off x="1827720" y="5536080"/>
                <a:ext cx="27252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272960" y="5771160"/>
                <a:ext cx="46620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1041120" y="5412600"/>
                <a:ext cx="48744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403560" y="420120"/>
              <a:ext cx="1802160" cy="1155960"/>
              <a:chOff x="403560" y="420120"/>
              <a:chExt cx="1802160" cy="1155960"/>
            </a:xfrm>
          </p:grpSpPr>
          <p:sp>
            <p:nvSpPr>
              <p:cNvPr id="112" name=""/>
              <p:cNvSpPr/>
              <p:nvPr/>
            </p:nvSpPr>
            <p:spPr>
              <a:xfrm flipH="1" rot="4107000">
                <a:off x="1694520" y="1016640"/>
                <a:ext cx="356040" cy="575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124640" y="551880"/>
                <a:ext cx="609120" cy="478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314640" y="1100520"/>
                <a:ext cx="636840" cy="243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8008920" y="3687480"/>
              <a:ext cx="1249200" cy="1629000"/>
              <a:chOff x="8008920" y="3687480"/>
              <a:chExt cx="1249200" cy="1629000"/>
            </a:xfrm>
          </p:grpSpPr>
          <p:sp>
            <p:nvSpPr>
              <p:cNvPr id="116" name=""/>
              <p:cNvSpPr/>
              <p:nvPr/>
            </p:nvSpPr>
            <p:spPr>
              <a:xfrm flipH="1" rot="10015800">
                <a:off x="8063280" y="4748760"/>
                <a:ext cx="38556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8556120" y="4435200"/>
                <a:ext cx="66024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8238600" y="3762360"/>
                <a:ext cx="68976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2092680" y="3240"/>
              <a:ext cx="148212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710160" y="160560"/>
              <a:ext cx="117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434040" y="1362240"/>
              <a:ext cx="567360" cy="44064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824280" y="1281960"/>
              <a:ext cx="211680" cy="37044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756520" y="0"/>
              <a:ext cx="2131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736080" y="1963800"/>
              <a:ext cx="67572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6192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7098840" y="6243480"/>
            <a:ext cx="23115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AB432-CDC2-483E-9988-A9D50E8371B1}" type="slidenum">
              <a:rPr b="0" lang="ru-RU"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660400" y="596880"/>
            <a:ext cx="670860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67" name="PlaceHolder 2"/>
          <p:cNvSpPr>
            <a:spLocks noGrp="1"/>
          </p:cNvSpPr>
          <p:nvPr>
            <p:ph type="body"/>
          </p:nvPr>
        </p:nvSpPr>
        <p:spPr>
          <a:xfrm>
            <a:off x="495000" y="1905120"/>
            <a:ext cx="8915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8" name="PlaceHolder 3"/>
          <p:cNvSpPr>
            <a:spLocks noGrp="1"/>
          </p:cNvSpPr>
          <p:nvPr>
            <p:ph type="dt" idx="7"/>
          </p:nvPr>
        </p:nvSpPr>
        <p:spPr>
          <a:xfrm>
            <a:off x="495360" y="6244920"/>
            <a:ext cx="2311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9" name="PlaceHolder 4"/>
          <p:cNvSpPr>
            <a:spLocks noGrp="1"/>
          </p:cNvSpPr>
          <p:nvPr>
            <p:ph type="ftr" idx="8"/>
          </p:nvPr>
        </p:nvSpPr>
        <p:spPr>
          <a:xfrm>
            <a:off x="3384360" y="6244920"/>
            <a:ext cx="31366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0" name="PlaceHolder 5"/>
          <p:cNvSpPr>
            <a:spLocks noGrp="1"/>
          </p:cNvSpPr>
          <p:nvPr>
            <p:ph type="sldNum" idx="9"/>
          </p:nvPr>
        </p:nvSpPr>
        <p:spPr>
          <a:xfrm>
            <a:off x="7098840" y="624492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C2F3-1066-49AF-BB5D-C6D30FDCAC05}"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42680" y="1996920"/>
            <a:ext cx="842004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08" name=""/>
          <p:cNvSpPr/>
          <p:nvPr/>
        </p:nvSpPr>
        <p:spPr>
          <a:xfrm>
            <a:off x="30960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9" name="PlaceHolder 2"/>
          <p:cNvSpPr>
            <a:spLocks noGrp="1"/>
          </p:cNvSpPr>
          <p:nvPr>
            <p:ph type="ftr" idx="10"/>
          </p:nvPr>
        </p:nvSpPr>
        <p:spPr>
          <a:xfrm>
            <a:off x="3384360" y="6244920"/>
            <a:ext cx="31366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10" name="PlaceHolder 3"/>
          <p:cNvSpPr>
            <a:spLocks noGrp="1"/>
          </p:cNvSpPr>
          <p:nvPr>
            <p:ph type="sldNum" idx="11"/>
          </p:nvPr>
        </p:nvSpPr>
        <p:spPr>
          <a:xfrm>
            <a:off x="7098840" y="624492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F6A1A-F149-497C-A527-2F584623DF56}"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1" name="PlaceHolder 4"/>
          <p:cNvSpPr>
            <a:spLocks noGrp="1"/>
          </p:cNvSpPr>
          <p:nvPr>
            <p:ph type="dt" idx="12"/>
          </p:nvPr>
        </p:nvSpPr>
        <p:spPr>
          <a:xfrm>
            <a:off x="495360" y="6244920"/>
            <a:ext cx="2311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2"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47680" y="456840"/>
            <a:ext cx="9245520" cy="16765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ockholm World Water Week</a:t>
            </a:r>
            <a:br>
              <a:rPr sz="1800"/>
            </a:br>
            <a:r>
              <a:rPr b="0" lang="en-US" sz="1800" spc="-1" strike="noStrike">
                <a:solidFill>
                  <a:srgbClr val="ffffff"/>
                </a:solidFill>
                <a:latin typeface="Tahoma"/>
              </a:rPr>
              <a:t> </a:t>
            </a:r>
            <a:r>
              <a:rPr b="0" lang="en-US" sz="2000" spc="-1" strike="noStrike">
                <a:solidFill>
                  <a:srgbClr val="ffffff"/>
                </a:solidFill>
                <a:latin typeface="Tahoma"/>
              </a:rPr>
              <a:t>EU Water Initiative </a:t>
            </a:r>
            <a:r>
              <a:rPr b="0" lang="ro-RO" sz="2000" spc="-1" strike="noStrike">
                <a:solidFill>
                  <a:srgbClr val="ffffff"/>
                </a:solidFill>
                <a:latin typeface="Tahoma"/>
              </a:rPr>
              <a:t> Meeting</a:t>
            </a:r>
            <a:r>
              <a:rPr b="0" lang="en-US" sz="2000" spc="-1" strike="noStrike">
                <a:solidFill>
                  <a:srgbClr val="ffffff"/>
                </a:solidFill>
                <a:latin typeface="Tahoma"/>
              </a:rPr>
              <a:t> </a:t>
            </a:r>
            <a:br>
              <a:rPr sz="2000"/>
            </a:br>
            <a:br>
              <a:rPr sz="2000"/>
            </a:br>
            <a:r>
              <a:rPr b="0" lang="ru-RU" sz="2000" spc="-1" strike="noStrike">
                <a:solidFill>
                  <a:srgbClr val="ffffff"/>
                </a:solidFill>
                <a:latin typeface="Tahoma"/>
              </a:rPr>
              <a:t> </a:t>
            </a:r>
            <a:br>
              <a:rPr sz="1800"/>
            </a:br>
            <a:r>
              <a:rPr b="0" lang="en-US" sz="1800" spc="-1" strike="noStrike">
                <a:solidFill>
                  <a:srgbClr val="ffffff"/>
                </a:solidFill>
                <a:latin typeface="Tahoma"/>
              </a:rPr>
              <a:t>Stockholm, August</a:t>
            </a:r>
            <a:r>
              <a:rPr b="0" lang="ru-RU" sz="3600" spc="-1" strike="noStrike">
                <a:solidFill>
                  <a:srgbClr val="ffffff"/>
                </a:solidFill>
                <a:latin typeface="Tahoma"/>
              </a:rPr>
              <a:t> </a:t>
            </a:r>
            <a:r>
              <a:rPr b="0" lang="en-US" sz="1800" spc="-1" strike="noStrike">
                <a:solidFill>
                  <a:srgbClr val="ffffff"/>
                </a:solidFill>
                <a:latin typeface="Tahoma"/>
              </a:rPr>
              <a:t>20 </a:t>
            </a:r>
            <a:r>
              <a:rPr b="0" lang="ru-RU" sz="1800" spc="-1" strike="noStrike">
                <a:solidFill>
                  <a:srgbClr val="ffffff"/>
                </a:solidFill>
                <a:latin typeface="Tahoma"/>
              </a:rPr>
              <a:t>-2</a:t>
            </a:r>
            <a:r>
              <a:rPr b="0" lang="en-US" sz="1800" spc="-1" strike="noStrike">
                <a:solidFill>
                  <a:srgbClr val="ffffff"/>
                </a:solidFill>
                <a:latin typeface="Tahoma"/>
              </a:rPr>
              <a:t>7</a:t>
            </a:r>
            <a:r>
              <a:rPr b="0" lang="ru-RU" sz="1800" spc="-1" strike="noStrike">
                <a:solidFill>
                  <a:srgbClr val="ffffff"/>
                </a:solidFill>
                <a:latin typeface="Tahoma"/>
              </a:rPr>
              <a:t>  200</a:t>
            </a:r>
            <a:r>
              <a:rPr b="0" lang="en-US" sz="1800" spc="-1" strike="noStrike">
                <a:solidFill>
                  <a:srgbClr val="ffffff"/>
                </a:solidFill>
                <a:latin typeface="Tahoma"/>
              </a:rPr>
              <a:t>6</a:t>
            </a:r>
            <a:r>
              <a:rPr b="0" lang="ru-RU" sz="1800" spc="-1" strike="noStrike">
                <a:solidFill>
                  <a:srgbClr val="ffffff"/>
                </a:solidFill>
                <a:latin typeface="Tahoma"/>
              </a:rPr>
              <a:t> г</a:t>
            </a:r>
            <a:endParaRPr b="0" lang="en-US" sz="1800" spc="-1" strike="noStrike">
              <a:solidFill>
                <a:srgbClr val="ffffff"/>
              </a:solidFill>
              <a:latin typeface="Tahoma"/>
            </a:endParaRPr>
          </a:p>
        </p:txBody>
      </p:sp>
      <p:sp>
        <p:nvSpPr>
          <p:cNvPr id="257" name="PlaceHolder 2"/>
          <p:cNvSpPr>
            <a:spLocks noGrp="1"/>
          </p:cNvSpPr>
          <p:nvPr>
            <p:ph type="subTitle"/>
          </p:nvPr>
        </p:nvSpPr>
        <p:spPr>
          <a:xfrm>
            <a:off x="1320480" y="2514600"/>
            <a:ext cx="7429320" cy="31240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ence of Moldova with development of criteria for the settlement prioritization for improved water supply</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Tatiana Ivanova</a:t>
            </a:r>
            <a:endParaRPr b="0" lang="en-US" sz="2000" spc="-1" strike="noStrike">
              <a:solidFill>
                <a:srgbClr val="ffffff"/>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cvaproiect, Moldov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The determination of the settlement prioritization</a:t>
            </a:r>
            <a:endParaRPr b="0" lang="en-US" sz="4000" spc="-1" strike="noStrike">
              <a:solidFill>
                <a:srgbClr val="006666"/>
              </a:solidFill>
              <a:latin typeface="Verdana"/>
            </a:endParaRPr>
          </a:p>
        </p:txBody>
      </p:sp>
      <p:sp>
        <p:nvSpPr>
          <p:cNvPr id="259"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marL="343080" indent="-343080" algn="just">
              <a:lnSpc>
                <a:spcPct val="8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 determination of the settlement prioritization means finding it from the number of  different settlements using the important parameters and criteria. In order to that from all of the possible parameters there should be chosen the ones that can be used in the most effective and adequate way as the prioritization criteria</a:t>
            </a:r>
            <a:r>
              <a:rPr b="0" lang="ru-RU" sz="2400" spc="-1" strike="noStrike">
                <a:solidFill>
                  <a:srgbClr val="006699"/>
                </a:solidFill>
                <a:latin typeface="Verdana"/>
              </a:rPr>
              <a:t>.</a:t>
            </a:r>
            <a:r>
              <a:rPr b="0" lang="ru-RU" sz="3200" spc="-1" strike="noStrike">
                <a:solidFill>
                  <a:srgbClr val="006699"/>
                </a:solidFill>
                <a:latin typeface="Verdana"/>
              </a:rPr>
              <a:t> </a:t>
            </a:r>
            <a:endParaRPr b="0" lang="en-US" sz="3200" spc="-1" strike="noStrike">
              <a:solidFill>
                <a:srgbClr val="006699"/>
              </a:solidFill>
              <a:latin typeface="Verdana"/>
            </a:endParaRPr>
          </a:p>
          <a:p>
            <a:pPr marL="343080" indent="-343080" algn="just">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t’s important to remember  that the significance of the criteria can differ depending on the goals and stage of prioritization</a:t>
            </a:r>
            <a:r>
              <a:rPr b="0" lang="ru-RU" sz="2400" spc="-1" strike="noStrike">
                <a:solidFill>
                  <a:srgbClr val="006699"/>
                </a:solidFill>
                <a:latin typeface="Verdana"/>
              </a:rPr>
              <a:t>. </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 name="PlaceHolder 3"/>
          <p:cNvSpPr>
            <a:spLocks noGrp="1"/>
          </p:cNvSpPr>
          <p:nvPr>
            <p:ph type="sldNum" idx="3"/>
          </p:nvPr>
        </p:nvSpPr>
        <p:spPr/>
        <p:txBody>
          <a:bodyPr/>
          <a:p>
            <a:fld id="{57EB0FC1-11FE-4729-BF18-17675D7ACB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HE GENERAL CRITERIA HAVE TO INCLUDE THE FOLLOWING PRINCIPLES:</a:t>
            </a:r>
            <a:endParaRPr b="0" lang="en-US" sz="3200" spc="-1" strike="noStrike">
              <a:solidFill>
                <a:srgbClr val="006666"/>
              </a:solidFill>
              <a:latin typeface="Verdana"/>
            </a:endParaRPr>
          </a:p>
        </p:txBody>
      </p:sp>
      <p:sp>
        <p:nvSpPr>
          <p:cNvPr id="261" name="PlaceHolder 2"/>
          <p:cNvSpPr>
            <a:spLocks noGrp="1"/>
          </p:cNvSpPr>
          <p:nvPr>
            <p:ph/>
          </p:nvPr>
        </p:nvSpPr>
        <p:spPr>
          <a:xfrm>
            <a:off x="495000" y="1752480"/>
            <a:ext cx="8915400" cy="457200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how the real necessity in the water supply improvement</a:t>
            </a:r>
            <a:r>
              <a:rPr b="0" lang="ru-RU" sz="2800" spc="-1" strike="noStrike">
                <a:solidFill>
                  <a:srgbClr val="006699"/>
                </a:solidFill>
                <a:latin typeface="Verdana"/>
              </a:rPr>
              <a:t>,</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 </a:t>
            </a:r>
            <a:r>
              <a:rPr b="0" lang="en-US" sz="2800" spc="-1" strike="noStrike">
                <a:solidFill>
                  <a:srgbClr val="006699"/>
                </a:solidFill>
                <a:latin typeface="Verdana"/>
              </a:rPr>
              <a:t>The intended investments should have the most social-economical benefit</a:t>
            </a:r>
            <a:r>
              <a:rPr b="0" lang="ru-RU" sz="2800" spc="-1" strike="noStrike">
                <a:solidFill>
                  <a:srgbClr val="006699"/>
                </a:solidFill>
                <a:latin typeface="Verdana"/>
              </a:rPr>
              <a:t>,</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 </a:t>
            </a:r>
            <a:r>
              <a:rPr b="0" lang="en-US" sz="2800" spc="-1" strike="noStrike">
                <a:solidFill>
                  <a:srgbClr val="006699"/>
                </a:solidFill>
                <a:latin typeface="Verdana"/>
              </a:rPr>
              <a:t>Show the sustainability of the settlement,</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ake into account the technical feasibility and the economy of the suggested investments and exploitation expenses</a:t>
            </a:r>
            <a:r>
              <a:rPr b="0" lang="ru-RU" sz="2800" spc="-1" strike="noStrike">
                <a:solidFill>
                  <a:srgbClr val="006699"/>
                </a:solidFill>
                <a:latin typeface="Verdana"/>
              </a:rPr>
              <a:t>. </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8543ED9D-4BD0-49BD-B093-C616FDCB86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79160" y="103320"/>
            <a:ext cx="8931240" cy="6588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6666"/>
                </a:solidFill>
                <a:latin typeface="Verdana"/>
              </a:rPr>
              <a:t>General Criteria</a:t>
            </a:r>
            <a:endParaRPr b="0" lang="en-US" sz="4000" spc="-1" strike="noStrike">
              <a:solidFill>
                <a:srgbClr val="006666"/>
              </a:solidFill>
              <a:latin typeface="Verdana"/>
            </a:endParaRPr>
          </a:p>
        </p:txBody>
      </p:sp>
      <p:sp>
        <p:nvSpPr>
          <p:cNvPr id="263" name="PlaceHolder 2"/>
          <p:cNvSpPr>
            <a:spLocks noGrp="1"/>
          </p:cNvSpPr>
          <p:nvPr>
            <p:ph/>
          </p:nvPr>
        </p:nvSpPr>
        <p:spPr>
          <a:xfrm>
            <a:off x="495000" y="990360"/>
            <a:ext cx="8915400" cy="5065560"/>
          </a:xfrm>
          <a:prstGeom prst="rect">
            <a:avLst/>
          </a:prstGeom>
          <a:noFill/>
          <a:ln w="0">
            <a:noFill/>
          </a:ln>
        </p:spPr>
        <p:txBody>
          <a:bodyPr lIns="90000" rIns="90000" tIns="46800" bIns="46800" anchor="t">
            <a:normAutofit fontScale="91000"/>
          </a:bodyPr>
          <a:p>
            <a:pPr marL="3121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Based on said above it is recommended to use the next 4 main criterea</a:t>
            </a:r>
            <a:r>
              <a:rPr b="0" lang="ru-RU" sz="2800" spc="-1" strike="noStrike">
                <a:solidFill>
                  <a:srgbClr val="006699"/>
                </a:solidFill>
                <a:latin typeface="Verdana"/>
              </a:rPr>
              <a:t> : </a:t>
            </a:r>
            <a:endParaRPr b="0" lang="en-US" sz="2800" spc="-1" strike="noStrike">
              <a:solidFill>
                <a:srgbClr val="006699"/>
              </a:solidFill>
              <a:latin typeface="Verdana"/>
            </a:endParaRPr>
          </a:p>
          <a:p>
            <a:pPr marL="312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12120" indent="-312120" algn="just">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health of population and risk factors</a:t>
            </a:r>
            <a:r>
              <a:rPr b="1" lang="ru-RU" sz="2800" spc="-1" strike="noStrike">
                <a:solidFill>
                  <a:srgbClr val="006699"/>
                </a:solidFill>
                <a:latin typeface="Verdana"/>
              </a:rPr>
              <a:t>;</a:t>
            </a:r>
            <a:endParaRPr b="0" lang="en-US" sz="2800" spc="-1" strike="noStrike">
              <a:solidFill>
                <a:srgbClr val="006699"/>
              </a:solidFill>
              <a:latin typeface="Verdana"/>
            </a:endParaRPr>
          </a:p>
          <a:p>
            <a:pPr marL="312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12120" indent="-312120" algn="just">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ocial and economical profit</a:t>
            </a:r>
            <a:r>
              <a:rPr b="1" lang="ru-RU" sz="2800" spc="-1" strike="noStrike">
                <a:solidFill>
                  <a:srgbClr val="006699"/>
                </a:solidFill>
                <a:latin typeface="Verdana"/>
              </a:rPr>
              <a:t>; </a:t>
            </a:r>
            <a:endParaRPr b="0" lang="en-US" sz="2800" spc="-1" strike="noStrike">
              <a:solidFill>
                <a:srgbClr val="006699"/>
              </a:solidFill>
              <a:latin typeface="Verdana"/>
            </a:endParaRPr>
          </a:p>
          <a:p>
            <a:pPr marL="312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12120" indent="-312120" algn="just">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ustainability of the system</a:t>
            </a:r>
            <a:r>
              <a:rPr b="1" lang="ru-RU" sz="2800" spc="-1" strike="noStrike">
                <a:solidFill>
                  <a:srgbClr val="006699"/>
                </a:solidFill>
                <a:latin typeface="Verdana"/>
              </a:rPr>
              <a:t>;</a:t>
            </a:r>
            <a:endParaRPr b="0" lang="en-US" sz="2800" spc="-1" strike="noStrike">
              <a:solidFill>
                <a:srgbClr val="006699"/>
              </a:solidFill>
              <a:latin typeface="Verdana"/>
            </a:endParaRPr>
          </a:p>
          <a:p>
            <a:pPr marL="312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12120" indent="-312120" algn="just">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echnical possibility</a:t>
            </a:r>
            <a:r>
              <a:rPr b="1" lang="ru-RU" sz="2800" spc="-1" strike="noStrike">
                <a:solidFill>
                  <a:srgbClr val="006699"/>
                </a:solidFill>
                <a:latin typeface="Verdana"/>
              </a:rPr>
              <a:t>.</a:t>
            </a:r>
            <a:r>
              <a:rPr b="0" lang="ru-RU" sz="2800" spc="-1" strike="noStrike">
                <a:solidFill>
                  <a:srgbClr val="006699"/>
                </a:solidFill>
                <a:latin typeface="Verdana"/>
              </a:rPr>
              <a:t> </a:t>
            </a:r>
            <a:endParaRPr b="0" lang="en-US" sz="2800" spc="-1" strike="noStrike">
              <a:solidFill>
                <a:srgbClr val="006699"/>
              </a:solidFill>
              <a:latin typeface="Verdana"/>
            </a:endParaRPr>
          </a:p>
          <a:p>
            <a:pPr marL="3121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 </a:t>
            </a:r>
            <a:r>
              <a:rPr b="0" lang="en-US" sz="2800" spc="-1" strike="noStrike">
                <a:solidFill>
                  <a:srgbClr val="006699"/>
                </a:solidFill>
                <a:latin typeface="Verdana"/>
              </a:rPr>
              <a:t>The selection of settlements is recommended to do by phases</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3300B7FE-D899-4B9E-A61D-662FD7AFE5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Weighting of Criteria</a:t>
            </a:r>
            <a:endParaRPr b="0" lang="en-US" sz="4400" spc="-1" strike="noStrike">
              <a:solidFill>
                <a:srgbClr val="006666"/>
              </a:solidFill>
              <a:latin typeface="Verdana"/>
            </a:endParaRPr>
          </a:p>
        </p:txBody>
      </p:sp>
      <p:sp>
        <p:nvSpPr>
          <p:cNvPr id="265" name="PlaceHolder 2"/>
          <p:cNvSpPr>
            <a:spLocks noGrp="1"/>
          </p:cNvSpPr>
          <p:nvPr>
            <p:ph/>
          </p:nvPr>
        </p:nvSpPr>
        <p:spPr>
          <a:xfrm>
            <a:off x="380520" y="1676520"/>
            <a:ext cx="9068040" cy="167616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s the main criteria and subcriteria on different stages have different values to the prioritization goals, it is recommended to use the specific “ Weighting” of each criteria on each stage of prioritization.</a:t>
            </a:r>
            <a:endParaRPr b="0" lang="en-US" sz="2400" spc="-1" strike="noStrike">
              <a:solidFill>
                <a:srgbClr val="006699"/>
              </a:solidFill>
              <a:latin typeface="Verdana"/>
            </a:endParaRPr>
          </a:p>
        </p:txBody>
      </p:sp>
      <p:graphicFrame>
        <p:nvGraphicFramePr>
          <p:cNvPr id="266" name=""/>
          <p:cNvGraphicFramePr/>
          <p:nvPr/>
        </p:nvGraphicFramePr>
        <p:xfrm>
          <a:off x="380880" y="3352680"/>
          <a:ext cx="9144000" cy="3276360"/>
        </p:xfrm>
        <a:graphic>
          <a:graphicData uri="http://schemas.openxmlformats.org/drawingml/2006/table">
            <a:tbl>
              <a:tblPr/>
              <a:tblGrid>
                <a:gridCol w="1447920"/>
                <a:gridCol w="1828800"/>
                <a:gridCol w="1981080"/>
                <a:gridCol w="1981440"/>
                <a:gridCol w="1904760"/>
              </a:tblGrid>
              <a:tr h="1512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Prioritization stage</a:t>
                      </a:r>
                      <a:r>
                        <a:rPr b="0" lang="ru-RU" sz="1800" spc="-1" strike="noStrike">
                          <a:solidFill>
                            <a:srgbClr val="006699"/>
                          </a:solidFill>
                          <a:latin typeface="Verdana"/>
                        </a:rPr>
                        <a:t> </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Health of the population and risk factors</a:t>
                      </a: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Social and economical benefit</a:t>
                      </a:r>
                      <a:r>
                        <a:rPr b="0" lang="ru-RU" sz="1800" spc="-1" strike="noStrike">
                          <a:solidFill>
                            <a:srgbClr val="006699"/>
                          </a:solidFill>
                          <a:latin typeface="Verdana"/>
                        </a:rPr>
                        <a:t> </a:t>
                      </a: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Sustainability</a:t>
                      </a:r>
                      <a:r>
                        <a:rPr b="0" lang="ru-RU" sz="2800" spc="-1" strike="noStrike">
                          <a:solidFill>
                            <a:srgbClr val="006699"/>
                          </a:solidFill>
                          <a:latin typeface="Verdana"/>
                        </a:rPr>
                        <a:t> </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Technical possibility</a:t>
                      </a:r>
                      <a:r>
                        <a:rPr b="0" lang="ru-RU" sz="2800" spc="-1" strike="noStrike">
                          <a:solidFill>
                            <a:srgbClr val="006699"/>
                          </a:solidFill>
                          <a:latin typeface="Verdana"/>
                        </a:rPr>
                        <a:t> </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588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First</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10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0</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88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econd</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45</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2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1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25</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8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ird</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13</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22</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48</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17</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
        <p:nvSpPr>
          <p:cNvPr id="4" name="PlaceHolder 3"/>
          <p:cNvSpPr>
            <a:spLocks noGrp="1"/>
          </p:cNvSpPr>
          <p:nvPr>
            <p:ph type="sldNum" idx="3"/>
          </p:nvPr>
        </p:nvSpPr>
        <p:spPr/>
        <p:txBody>
          <a:bodyPr/>
          <a:p>
            <a:fld id="{D12FA439-739F-4F91-A1B0-2E9F147AE5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79160" y="103320"/>
            <a:ext cx="8931240" cy="10396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he conclusion</a:t>
            </a:r>
            <a:r>
              <a:rPr b="0" lang="ru-RU" sz="4400" spc="-1" strike="noStrike">
                <a:solidFill>
                  <a:srgbClr val="006666"/>
                </a:solidFill>
                <a:latin typeface="Verdana"/>
              </a:rPr>
              <a:t> </a:t>
            </a:r>
            <a:endParaRPr b="0" lang="en-US" sz="4400" spc="-1" strike="noStrike">
              <a:solidFill>
                <a:srgbClr val="006666"/>
              </a:solidFill>
              <a:latin typeface="Verdana"/>
            </a:endParaRPr>
          </a:p>
        </p:txBody>
      </p:sp>
      <p:sp>
        <p:nvSpPr>
          <p:cNvPr id="268" name="PlaceHolder 2"/>
          <p:cNvSpPr>
            <a:spLocks noGrp="1"/>
          </p:cNvSpPr>
          <p:nvPr>
            <p:ph/>
          </p:nvPr>
        </p:nvSpPr>
        <p:spPr>
          <a:xfrm>
            <a:off x="495000" y="1219320"/>
            <a:ext cx="8915400" cy="49528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 developed method for the determination of the settlement prioritization directed to the improvement of water supply system  helped to choose 155 of the most problematic settlements from more than 1600 ones and then to determine 50 of the most prioritized settlements</a:t>
            </a:r>
            <a:r>
              <a:rPr b="0" lang="ru-RU" sz="2400" spc="-1" strike="noStrike">
                <a:solidFill>
                  <a:srgbClr val="006699"/>
                </a:solidFill>
                <a:latin typeface="Verdana"/>
              </a:rPr>
              <a:t>. </a:t>
            </a:r>
            <a:endParaRPr b="0" lang="en-US" sz="2400" spc="-1" strike="noStrike">
              <a:solidFill>
                <a:srgbClr val="006699"/>
              </a:solidFill>
              <a:latin typeface="Verdana"/>
            </a:endParaRPr>
          </a:p>
          <a:p>
            <a:pPr marL="343080" indent="-343080" algn="just">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From the 50 of the most prioritized settlements there were chosen 6 projects. For each one there were done feasibility study with financial and sociological researches</a:t>
            </a:r>
            <a:r>
              <a:rPr b="0" lang="ru-RU" sz="2400" spc="-1" strike="noStrike">
                <a:solidFill>
                  <a:srgbClr val="006699"/>
                </a:solidFill>
                <a:latin typeface="Verdana"/>
              </a:rPr>
              <a:t>. </a:t>
            </a:r>
            <a:endParaRPr b="0" lang="en-US" sz="2400" spc="-1" strike="noStrike">
              <a:solidFill>
                <a:srgbClr val="006699"/>
              </a:solidFill>
              <a:latin typeface="Verdana"/>
            </a:endParaRPr>
          </a:p>
          <a:p>
            <a:pPr marL="343080" indent="-343080" algn="just">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Based on the results of this feasibility study The Kuwait Fund For Arab Economic Development loan was given to the development of all 6 settlements. It is implemented successfully</a:t>
            </a:r>
            <a:r>
              <a:rPr b="0" lang="ru-RU" sz="2400" spc="-1" strike="noStrike">
                <a:solidFill>
                  <a:srgbClr val="006699"/>
                </a:solidFill>
                <a:latin typeface="Verdana"/>
              </a:rPr>
              <a:t>.</a:t>
            </a:r>
            <a:endParaRPr b="0" lang="en-US" sz="2400" spc="-1" strike="noStrike">
              <a:solidFill>
                <a:srgbClr val="006699"/>
              </a:solidFill>
              <a:latin typeface="Verdana"/>
            </a:endParaRPr>
          </a:p>
        </p:txBody>
      </p:sp>
      <p:sp>
        <p:nvSpPr>
          <p:cNvPr id="4" name="PlaceHolder 3"/>
          <p:cNvSpPr>
            <a:spLocks noGrp="1"/>
          </p:cNvSpPr>
          <p:nvPr>
            <p:ph type="sldNum" idx="3"/>
          </p:nvPr>
        </p:nvSpPr>
        <p:spPr/>
        <p:txBody>
          <a:bodyPr/>
          <a:p>
            <a:fld id="{34806082-5DD3-4F06-AB04-5FFC18043C6A}"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8T08:34:34Z</dcterms:created>
  <dc:creator>Bordeniuk</dc:creator>
  <dc:description/>
  <dc:language>en-US</dc:language>
  <cp:lastModifiedBy>Vanessa Celosse</cp:lastModifiedBy>
  <dcterms:modified xsi:type="dcterms:W3CDTF">2006-08-24T13:24:30Z</dcterms:modified>
  <cp:revision>64</cp:revision>
  <dc:subject/>
  <dc:title>Сектор Сельского Водоснабжения и Канализации (ССВК) в странах Восточной Европы, Кавказа и Центральной Азии (ВЕКЦА)-Проблемы и Перспективы Развития Апрель 19е-20е  2005 г Тбилиси, Грузия </dc:title>
</cp:coreProperties>
</file>